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ABD-B1B0-450B-9198-40522BCA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1F5-A74E-43F4-8B76-47C667CE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CE1-6786-4BB4-9728-C2C2F4BB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DCF-9EA7-49AE-A6C5-4E139AC4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2CC-FC43-42FF-BE87-670C979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559-EA40-438B-9E4A-FA96CB3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8B8-FD25-461B-A2B5-167E4B6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726-6334-45BB-8C78-20D3489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508-FB33-4F72-92A7-EFFDBDE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0D2-BACD-4666-B5FD-57BCA76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B4-B6D8-4752-8353-3083D16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9D5-487A-4C35-AA55-24CF5544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2AC-7FB0-4BB6-889E-B79BF0A22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9051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itions and Trut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e, Inverse, Contrapo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sleeping, then you are breat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82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the proposi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not breathing, then you are not slee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2286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breathing, then you are slee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28600" y="30481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not sleeping, then you are not breat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converse, inverse and contrapo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f the sun is shining, then it is warm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2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the proposi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28600" y="2286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286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biconditional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oposition that is true when p and q hav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me truth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false otherwise. “p if and only if q, p is necessary and sufficient for 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838080" y="2286000"/>
            <a:ext cx="3429000" cy="3738600"/>
            <a:chOff x="838080" y="2286000"/>
            <a:chExt cx="3429000" cy="3738600"/>
          </a:xfrm>
        </p:grpSpPr>
        <p:sp>
          <p:nvSpPr>
            <p:cNvPr id="115" name="Rectangle 5"/>
            <p:cNvSpPr/>
            <p:nvPr/>
          </p:nvSpPr>
          <p:spPr>
            <a:xfrm>
              <a:off x="83808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83808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259092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83808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914400" y="25146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6. The Truth Table for the biconditional p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990720" y="35100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106668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technique in proofs is to replace a statement with another statement that is “logically equivalen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utolog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und proposition that is always true regardless of the truth values of the propositions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dic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und proposition that is always false regardless of the truth values of the propositions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ly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propositions P and Q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ogically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is a tautology.  In other words, P and Q hav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me truth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combinations of truth values of simple proposi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denoted: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 (or by P   Q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72200" y="4648320"/>
                <a:ext cx="304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838080" y="19051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Makes a claim that may be either true or false; it must have the structure of a complet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066680" y="1219320"/>
            <a:ext cx="5410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e these propositions?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 mountain and through the w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es are fr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ick, brown f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3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4008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58128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6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438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of 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be a proposition.  The statement “It is not the case that p” is also a proposition, called the “negation of p” or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ad “not p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4800600" y="2209680"/>
            <a:ext cx="3429000" cy="3505320"/>
            <a:chOff x="4800600" y="2209680"/>
            <a:chExt cx="3429000" cy="3505320"/>
          </a:xfrm>
        </p:grpSpPr>
        <p:sp>
          <p:nvSpPr>
            <p:cNvPr id="52" name="Rectangle 5"/>
            <p:cNvSpPr/>
            <p:nvPr/>
          </p:nvSpPr>
          <p:spPr>
            <a:xfrm>
              <a:off x="4800600" y="2209680"/>
              <a:ext cx="3429000" cy="3505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4800600" y="342900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553080" y="34290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4800600" y="42670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880880" y="2357280"/>
              <a:ext cx="27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1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Truth Table for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ation of a Pro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5257800" y="3581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223600" y="4357800"/>
              <a:ext cx="225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 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  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12"/>
          <p:cNvSpPr/>
          <p:nvPr/>
        </p:nvSpPr>
        <p:spPr>
          <a:xfrm>
            <a:off x="304920" y="4343400"/>
            <a:ext cx="4114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The sky is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It is not the case that the sky is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The sky is no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unction of p an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: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proposition “p and q,” denoted b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when both p and q are true and is false otherwise.  This is called the conjunction of p and 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4724280" y="2209680"/>
            <a:ext cx="3429000" cy="3738600"/>
            <a:chOff x="4724280" y="2209680"/>
            <a:chExt cx="3429000" cy="3738600"/>
          </a:xfrm>
        </p:grpSpPr>
        <p:sp>
          <p:nvSpPr>
            <p:cNvPr id="63" name="Rectangle 5"/>
            <p:cNvSpPr/>
            <p:nvPr/>
          </p:nvSpPr>
          <p:spPr>
            <a:xfrm>
              <a:off x="4724280" y="220968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4724280" y="328140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6477120" y="328140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>
              <a:off x="4724280" y="41194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4800600" y="2209680"/>
              <a:ext cx="320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2. The Truth Table for the Conjunction of two propos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4876920" y="34336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4952880" y="419112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on of p and q: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proposition “p or q,” denoted b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 proposition that is false when p and q are both false and true otherwi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685800" y="2286000"/>
            <a:ext cx="3429000" cy="3738600"/>
            <a:chOff x="685800" y="2286000"/>
            <a:chExt cx="3429000" cy="3738600"/>
          </a:xfrm>
        </p:grpSpPr>
        <p:sp>
          <p:nvSpPr>
            <p:cNvPr id="73" name="Rectangle 5"/>
            <p:cNvSpPr/>
            <p:nvPr/>
          </p:nvSpPr>
          <p:spPr>
            <a:xfrm>
              <a:off x="68580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68580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243828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68580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762120" y="2286000"/>
              <a:ext cx="320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3. The Truth Table for the Disjunction of two propos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838080" y="3510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91440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066680" y="2057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VE OR means “either or b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VE OR means “one or the other, but not b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on of p and q: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85800" y="2286000"/>
            <a:ext cx="3429000" cy="3738600"/>
            <a:chOff x="685800" y="2286000"/>
            <a:chExt cx="3429000" cy="3738600"/>
          </a:xfrm>
        </p:grpSpPr>
        <p:sp>
          <p:nvSpPr>
            <p:cNvPr id="84" name="Rectangle 5"/>
            <p:cNvSpPr/>
            <p:nvPr/>
          </p:nvSpPr>
          <p:spPr>
            <a:xfrm>
              <a:off x="68580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68580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243828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68580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762120" y="22860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LUSIVE OR means “either or both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838080" y="3510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91440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"/>
          <p:cNvGrpSpPr/>
          <p:nvPr/>
        </p:nvGrpSpPr>
        <p:grpSpPr>
          <a:xfrm>
            <a:off x="4572000" y="2286000"/>
            <a:ext cx="3429000" cy="3733560"/>
            <a:chOff x="4572000" y="2286000"/>
            <a:chExt cx="3429000" cy="3733560"/>
          </a:xfrm>
        </p:grpSpPr>
        <p:sp>
          <p:nvSpPr>
            <p:cNvPr id="92" name="Rectangle 5"/>
            <p:cNvSpPr/>
            <p:nvPr/>
          </p:nvSpPr>
          <p:spPr>
            <a:xfrm>
              <a:off x="4572000" y="2286000"/>
              <a:ext cx="3429000" cy="3729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4572000" y="335628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6324480" y="3356280"/>
              <a:ext cx="0" cy="26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4572000" y="41932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4648320" y="22860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LUSIVE OR means “one or the other, but not both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4724280" y="35082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4800600" y="426456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, then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mpli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,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only if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sufficient for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f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henever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s necessary for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 p = antece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 q = cons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23:47:51Z</dcterms:created>
  <dc:creator>George Burdell</dc:creator>
  <dc:description/>
  <dc:language>en-US</dc:language>
  <cp:lastModifiedBy>Salem High School</cp:lastModifiedBy>
  <dcterms:modified xsi:type="dcterms:W3CDTF">2011-09-07T12:37:32Z</dcterms:modified>
  <cp:revision>18</cp:revision>
  <dc:subject/>
  <dc:title>PowerPoint Presentation</dc:title>
</cp:coreProperties>
</file>